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35D4-49B8-4CF4-BB3E-522A6E49E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4818-D0F7-4B54-A338-9775CC4E1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7858-262D-49F2-8D0D-3B62651D6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59E2-E2C4-415A-8FBD-93411B161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F86B-A195-448D-8E07-AEFCD23CD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CA33-0156-492F-AA0E-D56674914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9CD9-A24E-4FD0-B384-A592BDAC2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3B25-1841-48A8-8513-D61A66FAE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5895-3438-468C-8927-6842A6817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1080-313D-4A99-BF77-E74A8FE25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E1A7-985F-4566-B476-C5783F05A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D595-92CA-4393-967F-43BEB3B80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420D-4FEC-474F-9142-576C8AF5A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DD7D-670D-4945-B445-B742BBECA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791D-2CC7-4C53-A706-DE99C9CFD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616C-A850-4D84-B53A-280473D24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E88A-751A-4467-A088-3CA1E5502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A25-EB48-4484-AD24-3C70360D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7D0-E438-40D5-A5C3-BADF7833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F19-4CF8-4C44-A1FF-5223EDCF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08F-12E5-435A-8F3D-99DCCA39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944C-5C7B-4BC2-BBC4-8A75F5C5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1966-549C-4278-A67C-7C37F802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2367-125D-43E1-9297-0970EAEC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4CBB-8297-4C4F-B14D-BA3A8ECA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F29D-9F39-4482-BC0B-90146FD2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DCD2-9459-4094-AC35-EF4B850D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52DB-158A-49E6-BE2A-D5BC4326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0D7-F7B6-4ABA-BE61-82B4B62B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2FE8-CF45-4BC3-87F9-5FC5E97E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7C59-1BA5-4B3E-AB9C-8E740C41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7697-5DA2-40BD-B666-866D49DD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354C-1244-42FD-8016-8CE14507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8B51-8A3B-4F52-97C9-8F836857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1F5-EBE0-45F7-AA0C-3354385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74B-9730-497A-A413-41D67782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1D1-F4DD-4125-9C4B-FDBBEC7D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79F-3DC2-4EC0-8A18-F6E3BE37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DE0-8B59-4CA0-9CDD-E574CB7C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681-9204-4DBB-A02B-DEE78552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940-46C0-467C-8A6A-8DDE1234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D3B9-E886-4799-9F6D-7571A17408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C875-D133-4F84-AC09-7A5FF61D8A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41907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lcome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urriculum Nigh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12-2013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ease sign forms on the desk in the hall.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th Gr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nford Creek Elementary Schoo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914400" y="4876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Detai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ncpublicschools.org/docs/acre/standards/common-core-tools/unpacking/ela/5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Ma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71600" y="17524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tudents should be able 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ke sense of problems and persevere in solving the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Reason abstractly and quantitative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Construct viable arguments and critique the reasoning of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the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Model with mathematic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Use appropriate tools strategical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 Attend to prec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. Look for and make use of structur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. Look for and express regularity in repeated reasoni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Ma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371600" y="1752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Detai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ncpublicschools.org/docs/acre/standards/common-core-tools/unpacking/math/5th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Par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371600" y="175248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hat Can You Do?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engageny.org/wp-content/uploads/2012/05/Shifts-for-Students-and-Parents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pta.org/5thGradeFeb4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8232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s Based Gr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05120" y="1295280"/>
          <a:ext cx="5715000" cy="5181840"/>
        </p:xfrm>
        <a:graphic>
          <a:graphicData uri="http://schemas.openxmlformats.org/drawingml/2006/table">
            <a:tbl>
              <a:tblPr/>
              <a:tblGrid>
                <a:gridCol w="1879560"/>
                <a:gridCol w="3835440"/>
              </a:tblGrid>
              <a:tr h="74304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tends targeted grade level standard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ce I can do/get this, I c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gure out new things!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664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roficiency of targeted grade leve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ndards with evidence of applica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get it and I can use it.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</a:tr>
              <a:tr h="83808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roficiency of targeted grad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 standard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get it!” “I can do it well!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528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eds support to meet targeted grade level standard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almost get it, but I need help.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</a:tr>
              <a:tr h="99036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ufficient performance of targeted grade level standard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don’t get it yet.  I need help.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44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s work is not being assesse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am practicing a new skil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low of the 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:45 - 9: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room and Morning Sh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:25 - 10:1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als (PE, Media, Music, Art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:15 - 11: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 and BJ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:30 - 12:4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and BJB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12:50 -  1: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20 -  1:5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50 -  2: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30 -  3:3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ce/Social Stud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4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miss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work is a review of strategies taugh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actice multiplication and division facts every night (if your child does not already know th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ing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lete Reading Log Night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tudies/Science/Writing – as nee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se 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ning Rec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MSW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/Post Unit Assess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, Reading, &amp; Science EO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iculum 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ncpublicschools.org/curricul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and Writing Worksho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ughton Mifflin Math Expre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ce k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court Social Stud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Worksh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Worksh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-609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99072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mon C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s Based Gr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w of the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iculum 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Commun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nt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 Growth and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&amp;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er’s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6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-lesson each day with active student involv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Reading with “Just Right” 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ided Reading/Conferenc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ner Talk and Partner Reading – have authentic conversations about what you read with your chi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776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r’s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990720" y="1447920"/>
            <a:ext cx="761976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ini-lesson each day with active student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nvolvement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onferencing will be used to help individual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tudents develop stronger writing skill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tudents will be introduced to and compose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 variety of writing such as personal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arratives, poetry, research project,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(nonfiction), realistic fiction,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rsuasive essay, newsletter, memoirs,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business and friendly letters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Un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s-on, manipulative based, and full of problem sol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ng, Exploring Numbers, and Place Va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ment and Geom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ability, Fractions, and Decim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gebraic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ience Un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Taught with hands on activities and experiments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trong emphasis on vocabulary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cosystems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Weather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uman Body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orce, Motion, and Design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cience Studies Challenger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 Histor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tive Americans and Colonial Lif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nomy and 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ekly F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based communication (e-mail and Wikispaces) </a:t>
            </a:r>
            <a:r>
              <a:rPr b="0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sanfordcreek5th.wikispaces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ct your child’s teacher v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slet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telephone:  570-21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cher Commun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sed Field Tri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w River State P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est Forest Rang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est Meteorolog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ill working on cost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ent Volunte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parent volunteers </a:t>
            </a:r>
            <a:r>
              <a:rPr b="1" i="1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gister each year to become a volunte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ents should check in at the off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oordinate your volunteer time with your child’s teac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rder to chaperone a field trip, you must be registered as a level 3/4 volunteer stat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an Growth and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erty 1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dily chan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oductive org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ent Meeting February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imgthatsallfolks_2"/>
          <p:cNvPicPr/>
          <p:nvPr/>
        </p:nvPicPr>
        <p:blipFill>
          <a:blip r:embed="rId1"/>
          <a:stretch/>
        </p:blipFill>
        <p:spPr>
          <a:xfrm>
            <a:off x="2743200" y="838080"/>
            <a:ext cx="4286160" cy="372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560" y="4038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/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1976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Rationale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wcpss.net/common-core/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1976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Shift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ttp://engageny.org/wp-content/uploads/2011/08/common-core-shifts.pd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371600" y="1752480"/>
            <a:ext cx="70866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riteria for the Standard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wer, clearer, and hig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gned with college and work 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 rigorous content and application of knowledge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high-order ski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 upon strengths and lessons of current state stand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ationally benchmarked, so that all students a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pared to succeed in our global economy and socie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evidence and resea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371600" y="1752480"/>
            <a:ext cx="7086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reading, students should be able 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ad closely to determine what the text says explicit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Determine and analyze central ideas or the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Analyze interactions of characters, events, and ide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Interpret words and phrases in tex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Analyze text struc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 Assess point of vie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. Integrate and evaluate media cont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. Delineate and evaluate the arguments and claims in tex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Analyze texts with similar themes or topi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Read and comprehend complex tex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1371600" y="175248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writing, students should be able 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 arguments to support clai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Write informative/explanatory texts to convey ideas clear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Write narratives to develop real or imagined experien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Produce clear and coherent 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Develop and strengthen writing using the entire writing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 Use technology to produce and publish 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. Conduct short and sustained research pro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. Gather and integrate relevant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Draw evidence from texts to support resear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Write routinely for a range of tasks, purposes, and audien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066680" y="213372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speaking and listening, students should be able 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pare for and participate effectively in convers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Integrate and evaluate media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Evaluate a speaker’s point of view, reasoning, and rhetor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Present information logically and clear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Make strategic use of digital media and visual displa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 Adapt speech to a variety of contexts and tas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066680" y="2133720"/>
            <a:ext cx="777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conventions, students should be able 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monstrate command of the conventions of English gramm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Demonstrate command of the conventions of Englis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italization, punctuation, and spelling when 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Apply knowledge of language to understand how langu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Demonstrate or clarify meanings of unknown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Demonstrate understandings of word relationsh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 Acquire and use accurately a range of general academic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3:34:51Z</dcterms:created>
  <dc:creator>WCPSS</dc:creator>
  <dc:description/>
  <dc:language>en-US</dc:language>
  <cp:lastModifiedBy>tstrong</cp:lastModifiedBy>
  <dcterms:modified xsi:type="dcterms:W3CDTF">2012-07-24T14:55:48Z</dcterms:modified>
  <cp:revision>187</cp:revision>
  <dc:subject/>
  <dc:title>Welcome to Open House 2005!</dc:title>
</cp:coreProperties>
</file>